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thinktheme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media/image1.jpeg" ContentType="image/jpeg"/>
  <Override PartName="/ppt/media/dailydoubl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982-5C06-4718-811A-D2BB1F87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C45-8A00-41A1-826A-4E3E747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179-C81E-4C91-884E-B9C4C4A3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BBE-CFA4-4C4F-AF4A-9CB4C64A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4D7-3C35-4BC0-AA49-6221D7F3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E8C-C0E5-4164-BB57-97139161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121-87F7-4FD0-8974-D077BF93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C1C-372B-42DD-9F5C-A0B2F13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FEA-4CE6-4072-B40F-91864A5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55A-993B-4117-AFDA-35B1D7A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6EB-37F6-4C50-9595-79414615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AEE-26C0-4D62-8814-32AE9739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C9FB8780-DB12-4ACD-9B20-5C04C92BE7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53.xml"/><Relationship Id="rId3" Type="http://schemas.openxmlformats.org/officeDocument/2006/relationships/slide" Target="slide48.xml"/><Relationship Id="rId4" Type="http://schemas.openxmlformats.org/officeDocument/2006/relationships/slide" Target="slide43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39.xml"/><Relationship Id="rId8" Type="http://schemas.openxmlformats.org/officeDocument/2006/relationships/slide" Target="slide64.xml"/><Relationship Id="rId9" Type="http://schemas.openxmlformats.org/officeDocument/2006/relationships/slide" Target="slide59.xml"/><Relationship Id="rId10" Type="http://schemas.openxmlformats.org/officeDocument/2006/relationships/slide" Target="slide57.xml"/><Relationship Id="rId11" Type="http://schemas.openxmlformats.org/officeDocument/2006/relationships/slide" Target="slide49.xml"/><Relationship Id="rId12" Type="http://schemas.openxmlformats.org/officeDocument/2006/relationships/slide" Target="slide44.xml"/><Relationship Id="rId13" Type="http://schemas.openxmlformats.org/officeDocument/2006/relationships/slide" Target="slide40.xml"/><Relationship Id="rId14" Type="http://schemas.openxmlformats.org/officeDocument/2006/relationships/slide" Target="slide45.xml"/><Relationship Id="rId15" Type="http://schemas.openxmlformats.org/officeDocument/2006/relationships/slide" Target="slide50.xml"/><Relationship Id="rId16" Type="http://schemas.openxmlformats.org/officeDocument/2006/relationships/slide" Target="slide60.xml"/><Relationship Id="rId17" Type="http://schemas.openxmlformats.org/officeDocument/2006/relationships/slide" Target="slide65.xml"/><Relationship Id="rId18" Type="http://schemas.openxmlformats.org/officeDocument/2006/relationships/slide" Target="slide51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61.xml"/><Relationship Id="rId22" Type="http://schemas.openxmlformats.org/officeDocument/2006/relationships/slide" Target="slide66.xml"/><Relationship Id="rId23" Type="http://schemas.openxmlformats.org/officeDocument/2006/relationships/slide" Target="slide42.xml"/><Relationship Id="rId24" Type="http://schemas.openxmlformats.org/officeDocument/2006/relationships/slide" Target="slide62.xml"/><Relationship Id="rId25" Type="http://schemas.openxmlformats.org/officeDocument/2006/relationships/slide" Target="slide47.xml"/><Relationship Id="rId26" Type="http://schemas.openxmlformats.org/officeDocument/2006/relationships/slide" Target="slide52.xml"/><Relationship Id="rId27" Type="http://schemas.openxmlformats.org/officeDocument/2006/relationships/slide" Target="slide54.xml"/><Relationship Id="rId28" Type="http://schemas.openxmlformats.org/officeDocument/2006/relationships/slide" Target="slide67.xml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" Target="slide26.xml"/><Relationship Id="rId5" Type="http://schemas.openxmlformats.org/officeDocument/2006/relationships/slide" Target="slide31.xml"/><Relationship Id="rId6" Type="http://schemas.openxmlformats.org/officeDocument/2006/relationships/slide" Target="slide7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2.xml"/><Relationship Id="rId10" Type="http://schemas.openxmlformats.org/officeDocument/2006/relationships/slide" Target="slide17.xml"/><Relationship Id="rId11" Type="http://schemas.openxmlformats.org/officeDocument/2006/relationships/slide" Target="slide12.xml"/><Relationship Id="rId12" Type="http://schemas.openxmlformats.org/officeDocument/2006/relationships/slide" Target="slide6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28.xml"/><Relationship Id="rId17" Type="http://schemas.openxmlformats.org/officeDocument/2006/relationships/slide" Target="slide33.xml"/><Relationship Id="rId18" Type="http://schemas.openxmlformats.org/officeDocument/2006/relationships/slide" Target="slide1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24.xml"/><Relationship Id="rId22" Type="http://schemas.openxmlformats.org/officeDocument/2006/relationships/slide" Target="slide29.xml"/><Relationship Id="rId23" Type="http://schemas.openxmlformats.org/officeDocument/2006/relationships/slide" Target="slide34.xml"/><Relationship Id="rId24" Type="http://schemas.openxmlformats.org/officeDocument/2006/relationships/slide" Target="slide10.xml"/><Relationship Id="rId25" Type="http://schemas.openxmlformats.org/officeDocument/2006/relationships/slide" Target="slide30.xml"/><Relationship Id="rId26" Type="http://schemas.openxmlformats.org/officeDocument/2006/relationships/slide" Target="slide15.xml"/><Relationship Id="rId27" Type="http://schemas.openxmlformats.org/officeDocument/2006/relationships/slide" Target="slide25.xml"/><Relationship Id="rId28" Type="http://schemas.openxmlformats.org/officeDocument/2006/relationships/slide" Target="slide35.xml"/><Relationship Id="rId29" Type="http://schemas.openxmlformats.org/officeDocument/2006/relationships/audio" Target="../media/boardfill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hinktheme.wav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ancient Greek philosopher first came up with the idea of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obert Milik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this symbol represent?  p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 carries a negative char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elec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s occupy the nucleus of the atom?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neutron and the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et charge of an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Zer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 has the smallest ma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What is the mass number equal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# of protons + # of neu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nformation on the periodic table relays how many protons there are in an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Atomic numb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6934320" y="7696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are the number of electrons in an atom determin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number of electrons is equal to the number of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would the element with 5p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+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, 5e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-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and 6n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0 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be represented in isotope nota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-1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is 1 Daily Double question in the first round, 2 in Double Jeopardy, which are worth any amount that the team wishes to b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particles occupies the largest volume of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The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 varies from one isotope to anoth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neu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measurement is affected by the differing number of neutrons in isotop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mass numb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an element that contains 8 elec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ll atoms of the same element have what in comm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The atomic number or number of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there in F-21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a modern day application of the cathode ray tub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Television, radio, computer moni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process by which an atom of one element is converted to an atom of another ele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ransmu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erm describes that amount of time it takes for ½ the amount of a radioactive substance to dec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alf-lif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fraction of a sample remains after 5 half liv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bove what number can the transuranium elements be f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9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charge is associated with an anod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ositi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Elements are composed of what tiny indivisible particl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ecay particle has the greatest penetrating pow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gam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were emitted from Rutherford’s apparat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what direction do electrons flow in a Cathode Ray Tub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rom cathode to ano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13400" y="966168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572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820520" y="457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ic  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name given to JJ Thomson’s atomic mode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lum Pudd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ccording to John Dalton, Which atoms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 of the same el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09480"/>
            <a:ext cx="26672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96480" y="5335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c.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87720" y="97678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e Jeopar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first proposed that all matter consisted of ato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scribing the nuclear model of particles in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atomic theorist developed the concept of the atom without experimen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terms of charge, how would you compare a proton and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qual and oppos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relative mass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18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ould occur if two electrons were brought together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would repel one ano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 change in the number of electrons in an atom give rise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particle, proton or electron, is attracted to the cathode of a CR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From what is atomic mass deriv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weighted average mass of all atoms that naturally occur in a sam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65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Cl-35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6934320" y="72388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the atom that has a mass number or 15 and 8 neu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7238880" y="7162920"/>
            <a:ext cx="1524240" cy="15238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08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5" h="21600">
                <a:moveTo>
                  <a:pt x="11908" y="14281"/>
                </a:moveTo>
                <a:lnTo>
                  <a:pt x="11908" y="12323"/>
                </a:lnTo>
                <a:cubicBezTo>
                  <a:pt x="11908" y="11496"/>
                  <a:pt x="12239" y="10800"/>
                  <a:pt x="12839" y="10800"/>
                </a:cubicBezTo>
                <a:cubicBezTo>
                  <a:pt x="13971" y="10800"/>
                  <a:pt x="14867" y="9434"/>
                  <a:pt x="14867" y="7849"/>
                </a:cubicBezTo>
                <a:cubicBezTo>
                  <a:pt x="14867" y="5534"/>
                  <a:pt x="13013" y="3794"/>
                  <a:pt x="10803" y="3794"/>
                </a:cubicBezTo>
                <a:cubicBezTo>
                  <a:pt x="8592" y="3794"/>
                  <a:pt x="6921" y="5534"/>
                  <a:pt x="6921" y="7849"/>
                </a:cubicBezTo>
                <a:lnTo>
                  <a:pt x="8775" y="7849"/>
                </a:lnTo>
                <a:cubicBezTo>
                  <a:pt x="8775" y="6709"/>
                  <a:pt x="9697" y="5821"/>
                  <a:pt x="10803" y="5821"/>
                </a:cubicBezTo>
                <a:cubicBezTo>
                  <a:pt x="11908" y="5821"/>
                  <a:pt x="12839" y="6709"/>
                  <a:pt x="12839" y="7849"/>
                </a:cubicBezTo>
                <a:cubicBezTo>
                  <a:pt x="12839" y="8589"/>
                  <a:pt x="12369" y="9320"/>
                  <a:pt x="11908" y="9320"/>
                </a:cubicBezTo>
                <a:cubicBezTo>
                  <a:pt x="10803" y="9320"/>
                  <a:pt x="9697" y="10800"/>
                  <a:pt x="9697" y="12323"/>
                </a:cubicBezTo>
                <a:lnTo>
                  <a:pt x="96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electrons are there in a calcium 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type of energy determines whether a fission or fusion reaction takes place</a:t>
            </a:r>
            <a:r>
              <a:rPr b="0" i="1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Binding ener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is used to determine the age of carbon based materi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-1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a radioactive isoto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sotope that has an unstable nucleus and undergoes radioactive deca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subatomic particle is beta radiation composed of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sotope is more abundant?  F-19 or F-22 given an atomic mass of 20.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-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decay would occur in an isotope that has 4 neutrons and 2 prot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eta radi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has the least penetrating pow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do the mass of a proton and the mass of a neuron compa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are roughly the s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heorist was incorrect to say that all atoms of a given element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John Dal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alpha particles composed of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ositively charged helium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0">
              <a:spcBef>
                <a:spcPts val="1800"/>
              </a:spcBef>
              <a:buNone/>
              <a:tabLst>
                <a:tab algn="l" pos="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What type of nuclear reaction occurs in small nuclei to bring about stability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caused maximum deflection of alpha particles in Rutherford’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Changes in the number of these particles result in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equation accounts for the conversion of mass into energy in nuclear reaction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=mc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did Rutherford use in hi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What subatomic particle was discovered by inference to account for the discrepancy between particle mass and atomic ma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Neutr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would not be deflected by a magne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Gam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the discovery of the electron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JJ Thoms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ake your Wa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are Jimmy Neutrons two best frien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rl and She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thinktheme.wav"/>
      </p:stSnd>
    </p:sndAc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58080" y="3921120"/>
            <a:ext cx="155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336240" y="3921120"/>
            <a:ext cx="8986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Jimmy Neutron - Der mutige Erfinder"/>
          <p:cNvPicPr/>
          <p:nvPr/>
        </p:nvPicPr>
        <p:blipFill>
          <a:blip r:embed="rId1"/>
          <a:stretch/>
        </p:blipFill>
        <p:spPr>
          <a:xfrm>
            <a:off x="2590920" y="1677960"/>
            <a:ext cx="10972800" cy="709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scientist who performed the gold foil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the discovery of the neu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James Chadwic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udsd</cp:lastModifiedBy>
  <dcterms:modified xsi:type="dcterms:W3CDTF">2008-11-21T16:42:18Z</dcterms:modified>
  <cp:revision>84</cp:revision>
  <dc:subject/>
  <dc:title>Jeopardy</dc:title>
</cp:coreProperties>
</file>